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6C6-12B2-437E-82EA-835C1E67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5C8-4197-432B-9C6E-00DA0238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8F1-02A9-4A05-97B3-7895ACA7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01D-D749-4A54-B329-E41B0E92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EEE-140D-4282-818B-D5C8A02C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B89-D4B8-4094-BB0A-EE0B9812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8B3-4EEB-4CCC-96FF-06414EE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913A-8321-4D02-A8FB-3C88FDC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956-E51A-4027-98C6-A87CCE1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0C4A-211A-45A4-9E1F-2FD2D63B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761C-F726-4C65-A9F1-81296F0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E8D-58E5-403B-8175-5A7BEBB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29A-AEA0-48AE-9B16-649F8EE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7958-10F5-4206-86A8-9E54AC4B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ECA2-1056-4456-ABF6-A3F49AFE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A927-2497-49DC-8EA3-27D8E4B6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A73-7C50-4FA6-8BD0-BD135A10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B8E-3062-49D5-B081-65250DF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8AD-E279-479B-8306-DE92F5B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1A0-C97D-42DB-9F07-A8755F8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B7C-90D3-4E13-B103-4357605C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E48-3D6E-4B03-959C-0695EA4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1D3-1D7B-48BF-B3B3-7653E9F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865-B5E3-4943-BF07-530C260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5084-A9DA-4444-B432-F2F8D83D8A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069-55DE-43F8-9C7F-94A4F8C037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umour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 Self and Othe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ces involve both brain’s structure and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endencies (generalizations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are left-han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favour the right ear when listening, women listen equally with both 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excel at rotating 3-D objects in their hea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women than men prove better at reading the emotions of people in photograph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WHY?   Theor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ght hemisphere is dominant in male br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rpus callos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rger in female brains (thus allowing for better communication between the right and left hemispheres of the female b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pus callosum up to 23% wider in females (Allen and Gorski, 199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males use both sides of brain when spelling while males use mostly the left side when spelling (Naylor, 19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009960" cy="32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2879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nversation sty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(Deborah Tan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men –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nsensus mode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allowing everyone to have input in the decision making process (to not appear bossy or arrog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men do not call attention to their accomplishments to the same extent that men do (to not appear like they are bragg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of pronouns:  women use “we” or “our” whereas men use ”I” and “my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ense of Humor 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lapstic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involving exaggerated physical violence and activities which exceed the boundaries of common s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allows humo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ype of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umor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that arises from stressful, traumatic, or life-threatening situations (similar to black come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RNING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tch your dog!</a:t>
            </a:r>
            <a:br>
              <a:rPr sz="20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lice all over the country are advising all dog owners to "Watch your Dog". Dogs are being picked off one at a time. They are falling in great number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51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ense of Humor Wo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rony:  an expression of something completely different  from the literal meaning.  Usually, someone says the opposite of what they mean and the listener believes the opposite of what they said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61000" y="2362320"/>
            <a:ext cx="3770280" cy="3724200"/>
            <a:chOff x="4761000" y="2362320"/>
            <a:chExt cx="3770280" cy="37242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761000" y="2362320"/>
              <a:ext cx="377028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761000" y="2362320"/>
              <a:ext cx="377028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ildhood po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353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little boys made of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gs and snai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puppy dogs’ tails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’s what little boys are made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3425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What are little girls made of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Sugar and sp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And all that’s nic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That’s what little girls are made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focus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are gender differences distinct from gender ro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ifficulties do both men and women face moving into non-traditional gender are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important to keep challenging our beliefs about appropriate gender ro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der Attitu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Gender differen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physical differences that exist between males and fem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body f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muscle density (strengt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reproductive org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the past – resulted in us being put into rigid categories –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gender 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99160" y="304920"/>
            <a:ext cx="4344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Ro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der Rol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the roles that society expects people to play based on their 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3352680"/>
          <a:ext cx="7010280" cy="3102120"/>
        </p:xfrm>
        <a:graphic>
          <a:graphicData uri="http://schemas.openxmlformats.org/drawingml/2006/table">
            <a:tbl>
              <a:tblPr/>
              <a:tblGrid>
                <a:gridCol w="3505320"/>
                <a:gridCol w="3504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Gender Roles and Expec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Gender Role and Expecta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gressive behaviou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ugh and indepen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t to express their feeling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Job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 Involving physical strength (police, firefighter), Doctors, lawyers (power).  Careers would continue after the birth of childre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sive / submissive behaviou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inine and depend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otion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Job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Involving nurturing (nurses, not doctors, teachers).  Careers ended with the birth of childr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089480" y="30481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istorically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Roles and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91464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43434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nder social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the different ways in which boys and girls are socialized, or learn to belong to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rly Impact of Gen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voice pitch and word choice changes when relating to babies of perceived different g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Socialization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pitch vo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cabulary choice:  pretty, dain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er pitch vo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cabulary choice: Strong, big, health, strapp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560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ender Roles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705480" cy="381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163440"/>
            <a:ext cx="2590920" cy="24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3882960" cy="264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19320" y="4648320"/>
            <a:ext cx="205740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4:53:16Z</dcterms:created>
  <dc:creator>Administrator</dc:creator>
  <dc:description/>
  <dc:language>en-US</dc:language>
  <cp:lastModifiedBy>Customer</cp:lastModifiedBy>
  <dcterms:modified xsi:type="dcterms:W3CDTF">2010-04-07T12:39:00Z</dcterms:modified>
  <cp:revision>5</cp:revision>
  <dc:subject/>
  <dc:title>Unit 2 Self and Others</dc:title>
</cp:coreProperties>
</file>